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0CA9-A618-4886-A591-52CE0FAA0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C28E-4DBE-4770-8F8B-5582EA413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F609-0FF5-4758-9B96-4EBF8DDDD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0F65-68CC-474B-BB04-ED26F1281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86535-507B-4778-88B0-973A69DA7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A0742-2AAA-4130-A147-4F3995EDF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9BD94-BCE4-4AC5-8989-F8D15A025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30164-4D21-4343-A464-FCB391AFC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38808-B9F3-4864-BF05-36D43DE09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EDA36-FD52-4084-B19F-293F17440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ED548-B2F7-4090-B655-4A27FE44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CA5F-BA47-4B73-BC57-B3F69DA0A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15F17-6177-440F-B156-32F7FD17F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4A9B6-E6DA-4BC2-840A-CE180B4F5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28E8F-F91D-44E0-BD45-53619E926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431D6-FF97-4810-AE49-91F10411D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7A03F-2B92-45F4-B935-A6277E21B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340D-F2E5-4836-8891-C01B139EA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22D5-F2C4-420B-87FE-74F0512FF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5C62-1DC8-4291-84F7-63662B243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9472-132C-44EA-930B-68A547271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6154-7F64-40DA-BD43-A9D3582E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E12D-12C2-4254-B3FF-2EC52EF93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E5E4-D396-49D5-82C4-709C9FAD2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61F91-9D11-4A6D-9AEF-30787BF085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6E4BB-FFB5-4216-A47E-DF17B8827B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areer Planning Research Activity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00 Poi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e: 11/15/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at is the difference between a job and a career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438280"/>
            <a:ext cx="8007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job is work that you do mainly to earn money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career is a commitment to work in a field that you find interesting and fulfilling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Guidelin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search a career that you are interested in pursui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se career survey websites and personal references if availabl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 will be graded in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THREE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alms for 100 points in each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.  Class Resear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.  Poster Present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.  Writing Assign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1.  Class Research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ass Research will be graded on participation during guided computer tim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is will include career surveys, personal career investigations, and class discuss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2.  Poster Presentation</a:t>
            </a:r>
            <a:br>
              <a:rPr sz="4400"/>
            </a:b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-360" y="1143000"/>
            <a:ext cx="8991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eer 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kills—what skills are need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lary—what is the salary range for this care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ucation—what type of education do you need?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versity? A trade? Colleg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es—what type of traits are needed to b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od at your chosen profession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ctures and drawings—at least two pictures o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wings related to your career. Make sure tha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are large enough to be seen from a distance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that you include captions to provide furthe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ails about your pictur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3.  Writing Assignment</a:t>
            </a:r>
            <a:br>
              <a:rPr sz="4400"/>
            </a:b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51920" y="9144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are you interested in this specific caree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el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re the projected job prospects fo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viduals that want to pursue this caree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eld in the next 8-10 year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es—what type of traits are needed to b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od at your chosen profession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sonal Reflection—what makes you a goo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t for this profession?  What strengths an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kills do you possess that could add to thi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e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tations--Where did you get your answers to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question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areer Research Restriction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not research any career that is illeg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so, do not research careers that deal with professional athletics, show business, or any other profession where the percentage of participation is miniscul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you become a professional athlete or an A-list celebrity that will be great. For now, however, research a more plausible career fie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will spend time using the school’s computer labs you will be responsible for finishing any part of the assignment that you don’t finish during class time. Use your time wisely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1T17:17:32Z</dcterms:created>
  <dc:creator>Sys Admin</dc:creator>
  <dc:description/>
  <dc:language>en-US</dc:language>
  <cp:lastModifiedBy>SysAdmin</cp:lastModifiedBy>
  <dcterms:modified xsi:type="dcterms:W3CDTF">2011-11-07T13:16:57Z</dcterms:modified>
  <cp:revision>40</cp:revision>
  <dc:subject/>
  <dc:title>Slide 1</dc:title>
</cp:coreProperties>
</file>